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266-87EA-4577-BE24-EDA41167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001-DD94-454B-8E05-64F490F1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2DD-7780-41D3-B800-1F9D3D0E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337-EFC3-4F17-B786-A36A88A0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4665-3F5D-4183-9F7E-B4AD5C32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43C6-671E-4ECA-80A6-44BAE55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671D-523B-4896-B31E-BDDAFB4A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74E8-12E9-446A-A11F-25CE9E25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AA59-FEE2-4EC1-B94B-111ACF07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18E1-DFCD-43CB-91BC-F66BE620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17B4-641D-4AE2-97BD-A57A0F5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AF4-5852-4976-ABC2-1281914A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D013-7C49-4587-8129-BFA808EB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A9C0-AD28-4C89-AC47-E203877D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B4E6-A1AD-4A27-A558-5A0A285F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69AF-919B-445E-99DE-82C8EEFD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3ABE-AFD7-404F-9479-DFF9C1DC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CAB43-B0C7-4628-A7CD-534555E4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BA641-ED41-4A66-BD0C-FD6D941A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1F67E-1551-471E-B2CB-F79738CD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8846A-8D6F-40C6-B56C-EA622F41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A93E7-3BB8-403A-A100-05949700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BD0-F6CE-416C-8FC6-01831C01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FEF0B-B0D0-4B5B-9A8E-831D7F67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76583-4334-42DF-9185-C3AE0BAE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748B2-E282-4287-BC03-698BD8E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BEA2A-7439-4931-8C1C-C5E30EF8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A8324-B4B3-458E-B311-1E5884B3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2C140-D50E-41DA-871E-9D755E86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51733-BBA1-4893-9C38-36EF99D3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08C1F-E015-495C-91EE-CD9FEA60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2885F-8438-44D3-A04D-74F2D848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FC281-802E-473B-B5CE-2A8E1C43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E16-99D3-4B83-9175-0E37F0DA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C39A-FD42-4502-80B9-58B961A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2FFF-CB5B-4D2C-84F4-DE0B3D36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5ED0-4B5D-4F27-BE1A-B1931529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4B20-A7AC-43B7-B78D-B8D9BD8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92A74-8D3C-4E1C-9D98-C86A25E8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8D1A-700A-4027-BA65-44F8557E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A4939-81EB-4CC5-806A-402FDEF1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221A-9101-46DF-8F84-4236B9ED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EF73-4716-40C3-BD15-7F207E68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4754D-66CC-46EC-8FC0-61FC0E69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79B-00DB-4848-B25B-3DBCFC01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88280-BFBA-4952-990A-ABC5AC68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FACA1-5736-4C74-89A8-4AE923BF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F3CF4-3FBA-43E2-8B04-93D9A22E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9286C-1116-438A-81A9-A82117A1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4181D-81D2-43CA-8821-A61BEF7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7BC6E-4999-42CF-BAF7-302BA32C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6C7A3-03E6-461D-9625-398CE278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4DB38-589E-418B-A99F-3BF9892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9F3CF-FD22-4FCC-B288-DECDC45F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DE933-D2A4-41B5-8E90-50CDB88E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F57-653F-4EC6-BAA3-9DCADB83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79EBD-7AF0-4269-9FB6-E2A3AE12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9FF96-F5FE-4383-88EF-F0A44C65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9ED9F-C464-4880-879F-F0586A3B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4A575-4009-4507-949B-DE0984F5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735A8-4824-4F3B-BCA2-E3B260D4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C33D3-AC67-4C0A-8AF8-A86F46F4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CEE69-596A-48A6-8E19-6560AD92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ECB2E-0A31-4E1E-B037-CF5F5BF7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8DE79-26D7-4F3F-811B-F5768E5D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412BA-01E4-4876-8612-3964467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14E-83C1-4571-8FF0-8940060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27AA5-DE7C-419B-A4DF-2403C1CC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A32F0-A1FA-4304-85A8-E1E8F490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77A68-83EE-471A-A2B7-6A3057BC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ACBF1-4353-4CBA-9B97-0FE5A42E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B1619-EB68-4C41-A7CC-ADA30EC6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D037D-E1FD-4CD0-9D0C-D515FE4B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E9999-D2E8-4C3A-9081-A6C6A146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285AB-510C-4CC6-8BF3-D629B311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51F36-FA75-4891-B72A-D6E4FEFB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C2DE5-42DB-4BB6-8175-4E9E253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A39-81DF-4CA9-820C-06EE098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B6BAB-1814-412F-8E54-2B893222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36D9F-95F4-4B88-BCF0-FD1A3B76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36EA9-17C3-44C7-BF43-D69E66BC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F2ACE-C95C-40A9-8455-AEFD908D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5F0CF-428F-429E-9A03-53D05EBB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8FD-1CC2-4848-8143-1F14738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D9C9-4A11-4218-A25C-FE4A248C87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0629-04E9-436F-932D-4E1D208CC4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C1D-303B-4590-8B16-A27D558248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76A1-E594-41F2-96A9-7392F937033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5F78-1970-4DA4-8FCA-2BF3BC9396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C8CB-D923-4A14-9216-CB4C1F8E4D6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6A64-37B0-41F9-9C99-6DF1C34726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1360" y="714240"/>
            <a:ext cx="781524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3495c"/>
                </a:solidFill>
                <a:uFillTx/>
                <a:latin typeface="Century Schoolbook"/>
                <a:ea typeface="Times New Roman"/>
              </a:rPr>
              <a:t>ТЕМА УЧЕБНОГО ПРОЕКТ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ГРАФИКИ ФУНКЦИЙ</a:t>
            </a:r>
            <a:br>
              <a:rPr sz="3600"/>
            </a:br>
            <a:r>
              <a:rPr b="1" lang="ru-RU" sz="3200" spc="-1" strike="noStrike" u="sng">
                <a:solidFill>
                  <a:srgbClr val="03495c"/>
                </a:solidFill>
                <a:uFillTx/>
                <a:latin typeface="Century Schoolbook"/>
              </a:rPr>
              <a:t>ТВОРЧЕСКОЕ НАЗВАНИЕ ПРОЕКТА: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ФУНКЦИЯ РЯДОМ С НАМ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14400" y="5214960"/>
            <a:ext cx="61722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entury Schoolbook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арасова Оксана, 142 гр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4229640" y="61437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ыктывкар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4617b"/>
                </a:solidFill>
                <a:uFillTx/>
                <a:latin typeface="Century Schoolbook"/>
              </a:rPr>
              <a:t>АННОТАЦИЯ: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320" y="71388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273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 исследовании различных явлений и процессов природы, решении технических задач, изучении математики сплошь и рядом встречаются примеры изменения одной величины  в зависимости от изменения другой – так называемой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функциональной зависимости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нятие функциональной зависимости «как ни одно другое, воплощает в себе диалектические черты современного математического мышления; именно оно приучает мыслить величины в их живой изменчивости, а не в искусственно препарированной неподвижности, в их взаимной связи и обусловленности, а не в искусственном отрыве их друг от друга»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Данный проект предназначен для изучения темы "Графики функций" в 10 классе на уроках алгебры, который предполагает изучение детьми поведения функции и построение их графиков. Свободное владение техникой построения графиков часто помогает решать многие задачи, и порой является единственным средством их решения. Кроме того, умение строить графики функции представляет большой самостоятельный интерес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4" descr="I:\i.jpeg"/>
          <p:cNvPicPr/>
          <p:nvPr/>
        </p:nvPicPr>
        <p:blipFill>
          <a:blip r:embed="rId1"/>
          <a:stretch/>
        </p:blipFill>
        <p:spPr>
          <a:xfrm>
            <a:off x="6143760" y="5786280"/>
            <a:ext cx="133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571680" y="214200"/>
            <a:ext cx="79293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3495c"/>
                </a:solidFill>
                <a:uFillTx/>
                <a:latin typeface="Century Schoolbook"/>
              </a:rPr>
              <a:t>Основополагаю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Функция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математический портрет» закономерностей природы.  Так ли эт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571680" y="2143080"/>
            <a:ext cx="8001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3495c"/>
                </a:solidFill>
                <a:uFillTx/>
                <a:latin typeface="Century Schoolbook"/>
              </a:rPr>
              <a:t>Вопросы учебной 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менима ли функциональная зависимость в жиз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де используется функциональная зависимо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785880" y="5357880"/>
            <a:ext cx="650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3495c"/>
                </a:solidFill>
                <a:uFillTx/>
                <a:latin typeface="Century Schoolbook"/>
              </a:rPr>
              <a:t>Учебный предмет:</a:t>
            </a:r>
            <a:r>
              <a:rPr b="0" lang="ru-RU" sz="1800" spc="-1" strike="noStrike">
                <a:solidFill>
                  <a:srgbClr val="03495c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лгеб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3495c"/>
                </a:solidFill>
                <a:uFillTx/>
                <a:latin typeface="Century Schoolbook"/>
              </a:rPr>
              <a:t>Участники:</a:t>
            </a:r>
            <a:r>
              <a:rPr b="0" lang="ru-RU" sz="1800" spc="-1" strike="noStrike">
                <a:solidFill>
                  <a:srgbClr val="03495c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0 – е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428760" y="428760"/>
            <a:ext cx="82864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3495c"/>
                </a:solidFill>
                <a:uFillTx/>
                <a:latin typeface="Century Schoolbook"/>
                <a:ea typeface="Tahoma"/>
              </a:rPr>
              <a:t>Дидактические цели проекта: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бщить понятие функциональной 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смотреть конкретный способ задания функции, а именно графический спос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учить находить и видеть функциональную зависимость в жизни, то есть как и где применяетс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ь понять, что функциональная зависимость и ее графическое представление вокруг н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714240" y="285840"/>
            <a:ext cx="78584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3495c"/>
                </a:solidFill>
                <a:uFillTx/>
                <a:latin typeface="Century Schoolbook"/>
              </a:rPr>
              <a:t>Этапы проведения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готовительный эт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Мозговой штурм» (Выбор творческого названия проекта (совместно с учащимися), формирование тем исследований учеников) – 1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ждение индивидуального плана работы учащихся – 2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ждение со школьниками возможных источников информации, вопросов защиты авторских прав – 3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ап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ультации по выполнению упражнений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рка домашнего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ключительный эт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е на защиту самостоятельных исследований (2 уро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ждение результатов проекта. Поощрение лучших рабо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4617b"/>
                </a:solidFill>
                <a:uFillTx/>
                <a:latin typeface="Century Schoolbook"/>
                <a:ea typeface="Tahoma"/>
              </a:rPr>
              <a:t>РЕЗУЛЬТАТЫ ПРЕДОСТАВЛЕНИЯ ИССЛЕДОВАНИЯ:</a:t>
            </a: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ук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сок использованных материа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4617b"/>
                </a:solidFill>
                <a:uFillTx/>
                <a:latin typeface="Century Schoolbook"/>
              </a:rPr>
              <a:t>КОНТАКТНАЯ ИНФОРМАЦИЯ: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Tahoma"/>
              </a:rPr>
              <a:t>Тарасова Оксана Аркадьев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Tahoma"/>
              </a:rPr>
              <a:t>Тел: 20-19-3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ahoma"/>
              </a:rPr>
              <a:t>E-mail: shishkogryz@gmail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-702720" y="2143080"/>
            <a:ext cx="109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3495c"/>
                </a:solidFill>
                <a:latin typeface="Monotype Corsiva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7:50:37Z</dcterms:created>
  <dc:creator>Оксана</dc:creator>
  <dc:description/>
  <dc:language>en-US</dc:language>
  <cp:lastModifiedBy>Оксана</cp:lastModifiedBy>
  <dcterms:modified xsi:type="dcterms:W3CDTF">2010-05-27T07:31:32Z</dcterms:modified>
  <cp:revision>39</cp:revision>
  <dc:subject/>
  <dc:title>Тема учебного проекта: Графики функций</dc:title>
</cp:coreProperties>
</file>